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F97-C57F-49CD-8E50-7D1EF622B612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12680" y="1571760"/>
            <a:ext cx="53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MAINTEN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6200" y="1168560"/>
            <a:ext cx="7736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mands - 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Set prin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p {v|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 : View assigned prin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 : Set prin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739800"/>
            <a:ext cx="8107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nter into system maintenance and diagnostic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NTER PASSWORD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brand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mai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LDK-60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Version GS88P-C.7Ak OCT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sp Version: 3.0(06/06/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ATE: 02/12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: 10:55: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ITE NAME    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 PASSWORD: 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aint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120" y="1285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ystem Maintenance /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0600" y="1041480"/>
            <a:ext cx="737532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hows board configuration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channel list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bl xx yyy {r|t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Listens to rx|tx channel of time-slot yyy at station xx (port numb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xx : Station por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yyy : Time-slot number to be listen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r     : rx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t     : tx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7120" y="1285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ystem Maintenance /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58720" y="1020600"/>
            <a:ext cx="77360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bs [x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hows board stat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x : Slot number. 0 for MP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C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Shows HDLC statu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Reboot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maint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Reboots the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Requires admin pas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120" y="1285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ystem Maintenance /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0520" y="1197000"/>
            <a:ext cx="773604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&gt; ta {all|period|period_abort|atd|callsum|callhour|hw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sum|cohour} [hhmm] [timetyp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all timetype                  : Print all traffic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period hhmm timetype : Print traffic report period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period_abort                : Cancel periodic p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atd timetype                 : Print attendant traffic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allsum                        : Print call summar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allhour                        : Print call hourl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hw timetype                 : Print H/W usage summar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osum timetype           : Print CO traffic summar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ohour cogrp#              : Print CO traffic hourly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7120" y="1285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ystem Maintenance /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33360" y="1015920"/>
            <a:ext cx="773604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 - 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hhmm : hour/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time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tt   : Today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yt  : Yesterday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lh  : Last 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yp : Yesterday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tp  : Today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120" y="12852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ystem Maintenance / Diagno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1360" y="1482840"/>
            <a:ext cx="738360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ce (Device, Bo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ther (Memory Dump/Modification, STA/CO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aintenance/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agno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800" y="1252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헤드라인M"/>
              </a:rPr>
              <a:t>1.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7200" y="1303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DIP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200" y="1547640"/>
            <a:ext cx="7736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체"/>
              </a:rPr>
              <a:t>DIP Switch Setting/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SW1 on BMBU – DIP2 Trac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ON - Trace Off (Default 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OFF - Trace On (To get trace inform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SW1 on BMBU – DIP4 Database Initi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ON - Initialize Memory when system restarts (Default pos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OFF - Save Data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53040" y="4721400"/>
            <a:ext cx="0" cy="135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739800"/>
            <a:ext cx="8107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nter into system monitoring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NTER PASSWORD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jenni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m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LDK-60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Version GS88P-C.7Ak OCT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sp Version: 3.0(06/06/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ATE: 02/12/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: 10:51: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ITE NAME    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 PASSWORD: 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n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701640"/>
            <a:ext cx="81072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ard Trace (Max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t b xx [n]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xx: Slot number of bo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Option ‘n’ is graphical CO simple display m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Board : 1 ~ 10 (1 ~ 10 for Physical slot 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CPTU : 11       (Virtual slot number for CPT circu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DTRU : 12       (Virtual slot number for DTMF receiver circu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SMSB : 14       (Virtual slot number for SMS circu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Example ) For setting trace for board in slot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mon&gt; t  b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Delete all current trace commands and revert to idle con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Go to idle con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3360" y="1055520"/>
            <a:ext cx="797544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T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mon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{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[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[c|e|h|t]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  sxx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|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[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[c|e|h|t|n]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 cxx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}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바탕체"/>
              </a:rPr>
              <a:t>[a]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      : Device command tracing. (M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e      : Event tracing. (PP, Internal, Timer Ev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h      : Highway trac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t       : CTI device command / event trac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(Multi-options can be used; ceh, c, eh, ch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sxx : Trace of station 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(xxx: Physical station number, i.e.,  port number of s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cxx : Trace of CO line xx (xx: CO lin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a      : Include LED/LCD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31640" y="1224000"/>
            <a:ext cx="77360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Trace (Max 15) - 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o get trace command(c) and event(e) of station 100 (physical port 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t ce 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o trace command and event of CO line 5 with LED/LCD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t ce c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or the command/event trace for CO line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t ce c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19040" y="1239840"/>
            <a:ext cx="77360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d xxxxxx yyyy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ump memory between address xxxxxx and yyyy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(xxxxxx, yyyyyy: memory address in hexadec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memory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m xxxxxx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dify memory of address xxxxxx to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(xxxxxx: memory address in hexadecimal, bb: byte value in hexadec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5880" y="1236600"/>
            <a:ext cx="77360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Commands - 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station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s 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Show station xx stat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x : Station por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CO lin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n&gt;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굴림"/>
              </a:rPr>
              <a:t>c 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Show CO line xx statu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체"/>
              </a:rPr>
              <a:t>xx : CO lin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000" y="128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ystem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16:04:40Z</dcterms:created>
  <dc:creator/>
  <dc:description/>
  <dc:language>en-US</dc:language>
  <cp:lastModifiedBy>JEONGWON SUH</cp:lastModifiedBy>
  <cp:lastPrinted>2000-09-17T06:44:08Z</cp:lastPrinted>
  <dcterms:modified xsi:type="dcterms:W3CDTF">2006-11-21T02:40:02Z</dcterms:modified>
  <cp:revision>234</cp:revision>
  <dc:subject/>
  <dc:title>No Slide Title</dc:title>
</cp:coreProperties>
</file>